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585-EBE2-4E49-B58E-01428C0C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383-2669-42B5-AAAB-B88FD7BC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E19-7ACF-4762-8E34-C15EFC7D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F11-83E1-4DF1-9527-D3091390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BE8A-6440-4808-AFD5-64592B03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2DC9-2980-4002-8C17-BAA09A3A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4AE1-2F50-428B-91E2-80E983B2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441E-481C-46BB-BC36-4D069999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C8F6-7BD8-4BB9-9E11-97D9996C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8C23-41A9-419A-AA53-35D9D96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2CA4-0CDD-47AE-A50E-C021E8E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301-4962-4B0D-9C54-548AD650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4804-02F7-4E6E-BB18-12DF62A6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0E9E-8DF5-451D-8079-526BD84F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F737-A518-438F-B8F4-B3D37C6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4A79-C5BB-427A-BD52-F29425F0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8153-9D18-4067-853F-7FE2AFBA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BAC-F70F-494A-B20A-FCA68C81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83E-D910-4300-8A8F-89DD4EEB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87B-14F5-421F-BF79-77477005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69C-00EF-4558-972F-CA4BE66E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C3E-E359-441B-B958-39EAA82C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855-3C67-4D7A-A5C0-54B11E4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033-6C04-4D01-8C8D-AEB26545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C02A-9DFE-4915-B5E6-757D14FF752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8053-80CA-4BD9-BDF9-4A0667FAA7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package" Target="../embeddings/oleObject1.doc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ying Atmosphe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ique used to capture and analyze light from an astronomical body i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ers search for various atomic “signatures” by measuring how much light there is at each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5621400" cy="2590920"/>
          </a:xfrm>
          <a:prstGeom prst="rect">
            <a:avLst/>
          </a:prstGeom>
          <a:ln w="9360">
            <a:solidFill>
              <a:srgbClr val="ce15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819520" y="4343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’s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 Spectru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spect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unbroken ban of colors, which shows that its source is emitting light of all visible wavelength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wing solids (filament in a light bu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wing liquids (molten i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compressed gas in center of star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8153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le Properties of Ligh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ket of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can absorb or emit photons at specific wave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tell what element an atom is by what light it absorbs or e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419720" cy="2783160"/>
          </a:xfrm>
          <a:prstGeom prst="rect">
            <a:avLst/>
          </a:prstGeom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sorption Spectru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n atom absorbs a photon the atom gains the energy and one of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lectrons may jump to a higher energy leve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moves that wavelength from the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72744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98000" y="-774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62012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ission Spectru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66720" y="10666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n electron of an excited atom falls to a lower energy level, the atom emit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electron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excess energy as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creates a spectrum with a few bright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3144600" cy="33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533520" y="5105520"/>
          <a:ext cx="8153280" cy="147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105520"/>
                    <a:ext cx="8153280" cy="14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ation of Spectra Summ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of elements move from lower to higher energy levels when ex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of atoms or photons of light can do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lement has its own unique set of energ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bsorb and emit a unique set of wavelengths or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Spectra Summ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66720" y="144756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unbroken ban of color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iss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Every element as unique emission spectrum and can be used to identify components of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bsorp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formed when a continues spectrum of light passes through a cool gas and the cool gas absorbs the light 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1295280"/>
          <a:ext cx="381024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3810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828440"/>
            <a:ext cx="373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6520" y="1828440"/>
            <a:ext cx="373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361800"/>
          <a:ext cx="8153640" cy="626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61800"/>
                    <a:ext cx="815364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stronomers Se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838224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8:29:30Z</dcterms:created>
  <dc:creator>soe</dc:creator>
  <dc:description/>
  <dc:language>en-US</dc:language>
  <cp:lastModifiedBy>soe</cp:lastModifiedBy>
  <dcterms:modified xsi:type="dcterms:W3CDTF">2009-05-31T18:32:06Z</dcterms:modified>
  <cp:revision>1</cp:revision>
  <dc:subject/>
  <dc:title>Identifying Atmosphere</dc:title>
</cp:coreProperties>
</file>